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5F399-89DD-40EA-94BC-2A28716CB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F4E-07BE-410D-B5F5-E4A6A6C8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9812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6D8-6F04-43B4-BE5A-764D86C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BF2-2901-4D61-8975-E3854E3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D89-3C08-442E-BEB3-F3D1B1D9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6C-D830-468F-9955-5900F42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E68-D5A2-4FB8-A3F9-9996807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8C7-3ABE-4BF9-A27E-5043BDC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30-DA01-4C8F-A0B1-E3809DA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AA2-9A3F-455F-9538-D35F7E5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21B-FD9C-4989-9C71-5BB31FB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6E3-4C42-42C1-8EF3-80555DF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BA6-102B-4189-8894-75D4BCE1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2246-85F3-4133-ADDF-ADC9516AB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ars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920" y="1754280"/>
            <a:ext cx="907092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n't have much money, but he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in holy though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lieved strongly in practicing what he p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moral and hum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son Continued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ligently took care of his congregation and nothing could stop him from checking on his parish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burden for conver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Christian pri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urned down an opportunity to make lots of money, because he chose to stay home and care for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28:01Z</dcterms:created>
  <dc:creator>PCSC</dc:creator>
  <dc:description/>
  <dc:language>en-US</dc:language>
  <cp:lastModifiedBy/>
  <cp:revision>1</cp:revision>
  <dc:subject/>
  <dc:title/>
</cp:coreProperties>
</file>